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51E6-0140-412F-8275-F13EE2559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0800-1C80-41DE-9DC0-E2C59B082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356C-F0B3-41CA-8E0C-9210FC150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A32F-CCD2-4C06-9DBF-EA37368650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0EFA-B1A4-4318-943C-35C211E89F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0FC4-CF7F-4D5E-A25A-B70B9E508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98E1-75E5-4FE8-AB2B-2614DF7E2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1C9B-DF72-45DB-B18F-119E0D02A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FD64-1CBB-4165-A46E-71CBA0D9C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EC75-E7DF-488A-9208-D9C3C8CD1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C055-6C17-421F-AB17-C6B7D8FF9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9FCB-DA1C-4489-8FDD-381FA214E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7F75-E5B6-4172-AA09-3256C0C844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0146-A9BB-4874-8F7E-D3F8569184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ink-Pair-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3716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specific student you have encountered who has a learning disability and finds learning particularly challenging.  Which of the cognitive processes pose challenges for this student?  How did that manifest itself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86B3-5C14-401F-B238-B2A28EF4C7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TIPS lesson from the sample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lesson to familiarize yourself with the content and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it again with the cognitive processes in mind, 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 accommodations to better meet needs of students with learning dis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accommodations already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190F-28D8-4342-B9E7-FF973F3B87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ample 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95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one of the following les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9 Applied -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0 Applied - Trigon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Workplace -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Functions and Applications -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2 Advanced Functions - Ration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7C8D-996E-4203-A5D9-0017ED2A4A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nah Zike’s Teaching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ematics with Foldab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5CF4-7467-4497-B7DA-EF144487CF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33520" y="20178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dables result in student-made study guides that are compiled as students listen for main ideas, read for main ideas, and work their way through new concepts and proced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DB4D-D203-4856-A8AB-50788CDF76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04920" y="160020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template from the samples of “foldables”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“foldable” related to your TIPS lesson to support students with learning dis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40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reate a “Foldable”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953F-A760-4B08-8D26-362896C803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457200" y="76320"/>
            <a:ext cx="8156520" cy="53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434C-C5D9-4D14-BA0F-AD223DC30C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144440" y="304920"/>
            <a:ext cx="693288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A07F-7268-4948-BC33-EE37FF36BF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7960" cy="403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301788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9900-2276-47AC-BCA0-21B0804C38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6553080" y="76320"/>
            <a:ext cx="152424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ree-Tab Boo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28B4-F413-44C2-9B91-BD829C2A6B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457200" y="609480"/>
            <a:ext cx="51814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a sheet of paper like a hot d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ith the paper horizontal, and the fold of the hot dog up, fold the right side toward the center, trying to cover one half of th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the left side over the right side to make a book with three fo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pen the folded book. Cut up the two valleys on the top side only. This will form three ta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this book for data occurring in th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116760" y="533520"/>
            <a:ext cx="1655640" cy="761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62920" y="1371600"/>
            <a:ext cx="1447560" cy="1147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6324480" y="2209680"/>
            <a:ext cx="838440" cy="130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6515280" y="4038480"/>
            <a:ext cx="1866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23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2000"/>
          </a:bodyPr>
          <a:p>
            <a:pPr marL="35172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discuss and expl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gnitive processes, and how they impact students with learning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to increase success for students with learning disabilities (e.g. creating fold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D946-B3A8-47A0-BFD2-91CA83274E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E3A8-2BAA-43A0-B44D-E2B52BCDCD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334800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69900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2133720" y="4495680"/>
            <a:ext cx="4114800" cy="176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6553080" y="2286000"/>
            <a:ext cx="1828800" cy="3448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5"/>
          <a:stretch/>
        </p:blipFill>
        <p:spPr>
          <a:xfrm>
            <a:off x="990720" y="2362320"/>
            <a:ext cx="42465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6D09-9A72-443A-995E-706B064CCF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41120" y="380880"/>
            <a:ext cx="8622000" cy="3962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759280" y="3219480"/>
            <a:ext cx="285120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E380-A6E5-4BA3-AB94-2DADD185E5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867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6388-7119-4B3A-B7CA-9FE400AF8F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5279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AB75-BCF0-4C69-9A19-17D82307BA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81280" cy="2538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93048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3"/>
          <a:stretch/>
        </p:blipFill>
        <p:spPr>
          <a:xfrm>
            <a:off x="1295280" y="2971800"/>
            <a:ext cx="4373640" cy="175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4"/>
          <a:stretch/>
        </p:blipFill>
        <p:spPr>
          <a:xfrm>
            <a:off x="6934320" y="2514600"/>
            <a:ext cx="1600200" cy="3745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5"/>
          <a:stretch/>
        </p:blipFill>
        <p:spPr>
          <a:xfrm>
            <a:off x="2438280" y="4876920"/>
            <a:ext cx="41925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5592-73D3-4BA2-A2E6-7E597D0A91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1"/>
          <a:stretch/>
        </p:blipFill>
        <p:spPr>
          <a:xfrm>
            <a:off x="274680" y="314280"/>
            <a:ext cx="7954920" cy="501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5570640" y="5562720"/>
            <a:ext cx="24303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5C1A-A33A-47EA-A135-59DB1AAA9A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1"/>
          <a:stretch/>
        </p:blipFill>
        <p:spPr>
          <a:xfrm>
            <a:off x="560520" y="-495360"/>
            <a:ext cx="8126280" cy="59054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5105520" y="-457200"/>
            <a:ext cx="2971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EA9A-40F4-4870-A9A0-34535315AD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8727840" cy="4114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6985080" y="4495680"/>
            <a:ext cx="8715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17DD-3E35-4CE7-A312-764BA6D527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32560" cy="51814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5410080" y="152280"/>
            <a:ext cx="1828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C8F0-DD4B-495D-A227-292560AA47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609480" y="134928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ew minutes to look at the foldables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foldables help students with learning disa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ormal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7035-D77A-459D-B9CC-838A1B016B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235080" y="1676520"/>
            <a:ext cx="8680320" cy="3759120"/>
            <a:chOff x="235080" y="1676520"/>
            <a:chExt cx="8680320" cy="3759120"/>
          </a:xfrm>
        </p:grpSpPr>
        <p:pic>
          <p:nvPicPr>
            <p:cNvPr id="56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676520"/>
              <a:ext cx="58611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" descr=""/>
            <p:cNvPicPr/>
            <p:nvPr/>
          </p:nvPicPr>
          <p:blipFill>
            <a:blip r:embed="rId2"/>
            <a:stretch/>
          </p:blipFill>
          <p:spPr>
            <a:xfrm>
              <a:off x="235080" y="2971800"/>
              <a:ext cx="279396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8"/>
            <p:cNvSpPr/>
            <p:nvPr/>
          </p:nvSpPr>
          <p:spPr>
            <a:xfrm>
              <a:off x="3664080" y="342900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5873760" y="342900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9B8B-F5EE-4590-95B4-DAC72FF812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ttp://mathnmind.com/PDF%20Files/Pre-Algebra/dzf.pdf</a:t>
            </a: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speakmath.wordpress.com/2012/03/07/all-about-slope-foldable/# </a:t>
            </a:r>
            <a:br>
              <a:rPr sz="2400"/>
            </a:b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1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353E-F094-464C-8B6C-75457C2358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362320" y="1257480"/>
            <a:ext cx="4495680" cy="3085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rcRect l="0" t="22874" r="3443" b="21118"/>
          <a:stretch/>
        </p:blipFill>
        <p:spPr>
          <a:xfrm>
            <a:off x="2286000" y="4495680"/>
            <a:ext cx="47293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is September, and you are working with a new teacher on lesson plan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Math Camp, you have become more aware of the cognitive processes, and how they impact students with learning dis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2 or 3 pieces of advice could you give to help the teacher plan lessons to better meet the needs of these stude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B0CC-F0EE-4C18-9A81-4059779314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16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ormal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5308-EB87-4107-A90B-E9696D1A9C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6"/>
          <p:cNvGrpSpPr/>
          <p:nvPr/>
        </p:nvGrpSpPr>
        <p:grpSpPr>
          <a:xfrm>
            <a:off x="235080" y="1600200"/>
            <a:ext cx="8680320" cy="3809880"/>
            <a:chOff x="235080" y="1600200"/>
            <a:chExt cx="8680320" cy="3809880"/>
          </a:xfrm>
        </p:grpSpPr>
        <p:pic>
          <p:nvPicPr>
            <p:cNvPr id="63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650960"/>
              <a:ext cx="58611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235080" y="2946240"/>
              <a:ext cx="279396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8"/>
            <p:cNvSpPr/>
            <p:nvPr/>
          </p:nvSpPr>
          <p:spPr>
            <a:xfrm>
              <a:off x="3664080" y="340344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5873760" y="340344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8"/>
            <p:cNvSpPr/>
            <p:nvPr/>
          </p:nvSpPr>
          <p:spPr>
            <a:xfrm>
              <a:off x="41148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9"/>
            <p:cNvSpPr/>
            <p:nvPr/>
          </p:nvSpPr>
          <p:spPr>
            <a:xfrm>
              <a:off x="64008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0"/>
            <p:cNvSpPr/>
            <p:nvPr/>
          </p:nvSpPr>
          <p:spPr>
            <a:xfrm>
              <a:off x="82296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1"/>
            <p:cNvSpPr/>
            <p:nvPr/>
          </p:nvSpPr>
          <p:spPr>
            <a:xfrm>
              <a:off x="3886200" y="43178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76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3"/>
            <p:cNvSpPr/>
            <p:nvPr/>
          </p:nvSpPr>
          <p:spPr>
            <a:xfrm>
              <a:off x="6096240" y="43135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686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5"/>
            <p:cNvSpPr/>
            <p:nvPr/>
          </p:nvSpPr>
          <p:spPr>
            <a:xfrm>
              <a:off x="3048120" y="1600200"/>
              <a:ext cx="1371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Answer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ew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6D14-5ECB-4C14-A365-CD188F0870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387360" y="1523880"/>
            <a:ext cx="8528040" cy="3810240"/>
            <a:chOff x="387360" y="1523880"/>
            <a:chExt cx="8528040" cy="3810240"/>
          </a:xfrm>
        </p:grpSpPr>
        <p:pic>
          <p:nvPicPr>
            <p:cNvPr id="76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523880"/>
              <a:ext cx="586116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"/>
            <p:cNvPicPr/>
            <p:nvPr/>
          </p:nvPicPr>
          <p:blipFill>
            <a:blip r:embed="rId2"/>
            <a:stretch/>
          </p:blipFill>
          <p:spPr>
            <a:xfrm>
              <a:off x="387360" y="2895480"/>
              <a:ext cx="243828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8"/>
            <p:cNvSpPr/>
            <p:nvPr/>
          </p:nvSpPr>
          <p:spPr>
            <a:xfrm>
              <a:off x="3581280" y="327672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9"/>
            <p:cNvSpPr/>
            <p:nvPr/>
          </p:nvSpPr>
          <p:spPr>
            <a:xfrm>
              <a:off x="5873760" y="327672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16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ew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CE10-4846-4840-A272-25749A36BA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5"/>
          <p:cNvGrpSpPr/>
          <p:nvPr/>
        </p:nvGrpSpPr>
        <p:grpSpPr>
          <a:xfrm>
            <a:off x="304920" y="1828800"/>
            <a:ext cx="8534160" cy="3119400"/>
            <a:chOff x="304920" y="1828800"/>
            <a:chExt cx="8534160" cy="3119400"/>
          </a:xfrm>
        </p:grpSpPr>
        <p:pic>
          <p:nvPicPr>
            <p:cNvPr id="83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197856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2971800" y="1828800"/>
              <a:ext cx="5867280" cy="28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8"/>
            <p:cNvSpPr/>
            <p:nvPr/>
          </p:nvSpPr>
          <p:spPr>
            <a:xfrm>
              <a:off x="3595680" y="345780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20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"/>
            <p:cNvSpPr/>
            <p:nvPr/>
          </p:nvSpPr>
          <p:spPr>
            <a:xfrm>
              <a:off x="5791320" y="350280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alibri"/>
                </a:rPr>
                <a:t>113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A516-A419-4983-B77A-19958FA901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182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142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students with learning disabilities in your school (i.e. in which course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ways your math department/school/Board currently supports students with learning disabilities that you think ar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E58D-1FDB-4B2B-92F3-2C4D5D0E4C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.A.T. City Workshop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581640" cy="2209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952880" y="990720"/>
            <a:ext cx="3429000" cy="2214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380880" y="3962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ips would you give secondary math teachers to help them better meet the needs of students with these types of learning disabil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33520" y="32878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ading Comprehension –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952880" y="32878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ading and Decoding – p b d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2209680" y="62150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F.A.T. City Workshops (Frustration, Anxiety, Tension), Rick Lavoie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24T14:49:58Z</dcterms:modified>
  <cp:revision>55</cp:revision>
  <dc:subject/>
  <dc:title>&lt;Title&gt;</dc:title>
</cp:coreProperties>
</file>